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FCA-60B1-44BA-885E-07C8391F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023-6E8E-4BAC-AC23-6A4763B7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43F-2EA8-4041-8F1D-22DBEEE0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8BA-758C-49E2-9334-F175BD4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62B0-1528-484C-9ECA-7040FE9B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FBE-0F52-4FFC-9E0D-65EBC1E7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5054-D715-4547-A03A-578F839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E99-85FB-46EB-8BD8-AC43178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BC59-40F0-46D0-BD7B-CDEEFA3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C82-D8CD-4F06-B1D1-C0FA663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63BC-4D01-40B8-8B83-9AA92043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6A9-B293-4A48-AAE3-F006B32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F843-CD10-48A9-91B3-01FB93E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A271-0A6F-47C2-82FE-247EF23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805-5934-4172-87FE-02960C2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6A5-4902-4D6E-8F36-22B00BD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931C-54FA-4EB9-80B4-7F75950E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F06-4453-4C29-97BB-9A3D8FB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6AA-78C4-4707-B231-3F1C65A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F03-BBE4-44A3-A019-BFBCB68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326-ACB6-4C3D-8B82-EED0C5AD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6BA-10E1-4772-9045-32AB50F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794-0517-47A4-8F45-9EE573DC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F52-FEA5-42AA-B105-6F1F78B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00D-866A-4974-9E27-0A6FE586E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BF50-81CD-4C7D-B74B-CC2716049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MATE AND WEATH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climate and 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ermines clim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climate typ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Climate Reg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ClimateMapWorld"/>
          <p:cNvPicPr/>
          <p:nvPr/>
        </p:nvPicPr>
        <p:blipFill>
          <a:blip r:embed="rId1"/>
          <a:stretch/>
        </p:blipFill>
        <p:spPr>
          <a:xfrm>
            <a:off x="990720" y="1143000"/>
            <a:ext cx="6924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Climate Reg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each climate region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Humid Continental Cl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id continen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m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ture mild to warm summers and cold winters. Precipitation is distributed fairly evenly throughout the year, though many locations well inland have more precipitation in the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5" descr="Climate  - Cartoon image for proofing use only, unauthorised reproduction prohibited.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weath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is the condition of the bottom layer of earth’s atmosphere in one place over a short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changes from week to week, day to day, or even from one minute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we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Cj04124920000[1]"/>
          <p:cNvPicPr/>
          <p:nvPr/>
        </p:nvPicPr>
        <p:blipFill>
          <a:blip r:embed="rId1"/>
          <a:stretch/>
        </p:blipFill>
        <p:spPr>
          <a:xfrm>
            <a:off x="7315200" y="152280"/>
            <a:ext cx="158112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MCj04124640000[1]"/>
          <p:cNvPicPr/>
          <p:nvPr/>
        </p:nvPicPr>
        <p:blipFill>
          <a:blip r:embed="rId2"/>
          <a:stretch/>
        </p:blipFill>
        <p:spPr>
          <a:xfrm>
            <a:off x="228600" y="152280"/>
            <a:ext cx="1539720" cy="151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MCj04127480000[1]"/>
          <p:cNvPicPr/>
          <p:nvPr/>
        </p:nvPicPr>
        <p:blipFill>
          <a:blip r:embed="rId3"/>
          <a:stretch/>
        </p:blipFill>
        <p:spPr>
          <a:xfrm>
            <a:off x="6324480" y="4780080"/>
            <a:ext cx="1901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lace on earth has a climate ty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is best defined as the pattern of weather a place experiences over a long period of ti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is the average temperature and precipitation of a place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MCj04136040000[1]"/>
          <p:cNvPicPr/>
          <p:nvPr/>
        </p:nvPicPr>
        <p:blipFill>
          <a:blip r:embed="rId1"/>
          <a:stretch/>
        </p:blipFill>
        <p:spPr>
          <a:xfrm>
            <a:off x="7391520" y="152280"/>
            <a:ext cx="148752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Elevation-  The higher into the atmosphere the colder the tempera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mountains1280x1024"/>
          <p:cNvPicPr/>
          <p:nvPr/>
        </p:nvPicPr>
        <p:blipFill>
          <a:blip r:embed="rId1"/>
          <a:stretch/>
        </p:blipFill>
        <p:spPr>
          <a:xfrm>
            <a:off x="4114800" y="276228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MountEverest"/>
          <p:cNvPicPr/>
          <p:nvPr/>
        </p:nvPicPr>
        <p:blipFill>
          <a:blip r:embed="rId2"/>
          <a:stretch/>
        </p:blipFill>
        <p:spPr>
          <a:xfrm>
            <a:off x="228600" y="3048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Latitude- The closer to the equator the hotter the temperature.  Likewise, the closer to the poles the colder the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world2550"/>
          <p:cNvPicPr/>
          <p:nvPr/>
        </p:nvPicPr>
        <p:blipFill>
          <a:blip r:embed="rId1"/>
          <a:stretch/>
        </p:blipFill>
        <p:spPr>
          <a:xfrm>
            <a:off x="0" y="3581280"/>
            <a:ext cx="5238720" cy="266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rudlph_a"/>
          <p:cNvPicPr/>
          <p:nvPr/>
        </p:nvPicPr>
        <p:blipFill>
          <a:blip r:embed="rId2"/>
          <a:stretch/>
        </p:blipFill>
        <p:spPr>
          <a:xfrm>
            <a:off x="5791320" y="3838680"/>
            <a:ext cx="2590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Location in relation to nearby landforms and bodies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2005_gravity_atoll"/>
          <p:cNvPicPr/>
          <p:nvPr/>
        </p:nvPicPr>
        <p:blipFill>
          <a:blip r:embed="rId1"/>
          <a:stretch/>
        </p:blipFill>
        <p:spPr>
          <a:xfrm>
            <a:off x="228600" y="2666880"/>
            <a:ext cx="4457880" cy="2517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westSahara3er"/>
          <p:cNvPicPr/>
          <p:nvPr/>
        </p:nvPicPr>
        <p:blipFill>
          <a:blip r:embed="rId2"/>
          <a:stretch/>
        </p:blipFill>
        <p:spPr>
          <a:xfrm>
            <a:off x="4724280" y="3849840"/>
            <a:ext cx="4229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cgan276l"/>
          <p:cNvPicPr/>
          <p:nvPr/>
        </p:nvPicPr>
        <p:blipFill>
          <a:blip r:embed="rId1"/>
          <a:stretch/>
        </p:blipFill>
        <p:spPr>
          <a:xfrm>
            <a:off x="1981080" y="609480"/>
            <a:ext cx="4869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 types of climat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ers and Climatologists have worked on many different classification systems to define climate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difficult task because of changing climate conditions and the lack of real accurate weather data from some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 types of climat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hat is most widely used was developed by a German scientist, Wladimir Kopp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ppen’s system includes five broad climate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, Dry, Moderate, Continental, and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15:21Z</dcterms:created>
  <dc:creator>hberndt</dc:creator>
  <dc:description/>
  <dc:language>en-US</dc:language>
  <cp:lastModifiedBy>hberndt</cp:lastModifiedBy>
  <dcterms:modified xsi:type="dcterms:W3CDTF">2008-09-26T20:01:16Z</dcterms:modified>
  <cp:revision>6</cp:revision>
  <dc:subject/>
  <dc:title>CLIMATE AND WEATHER</dc:title>
</cp:coreProperties>
</file>